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74B1-041E-4A33-9163-CC7DAF443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93B3-59D5-4D2D-9FE3-CB0CDB5C0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E0087F-3EBA-43B6-A8BA-E3E6D01F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B6711-71DC-4280-9A80-0C95B9CC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7C11E-6977-46FC-91FC-07F0DEC8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E6168B-4FE7-483C-BD18-3DF8EC6F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6842D-E033-4C37-87B6-A1D296D5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C3117E-4A3A-452A-92A7-70BD2C18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A0E1B3-438F-44CB-9B5E-E8344019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6E4A3C-3CD9-4D42-90A1-7428D869F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953FF1-3A94-4784-AD1C-07FA0D698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DCCE9A-DF33-480E-B415-73825FF37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1AA5-2C1C-4860-BBD2-CC25A3F1F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9E842D-6EF9-4E0D-B4CC-69066936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6EBD168-B5A1-4B98-8233-76218841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AA6E88-EC2D-4804-A902-FD8B7B98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53C705-66A3-44CE-B79D-B3F83DB1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21BA4D-8EAC-419E-BCC4-D4203823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678298-FC4B-4C71-9A86-0A7FE2C0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3CA776-AE0A-488E-9692-19B818E6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AE4D39-3DA0-452E-9640-A79A0293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A13A2D-8BBA-4B4B-9AE8-5709E13D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DE6D07E-2CEC-4024-BCAF-D5B276B1D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7670-5C7C-4281-B67C-55EC2BACB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5D3B76-23D3-411E-981F-A2B44AA4A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F699E-2AEE-4E76-AFE3-8B6FF0631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E5152-AEE9-4A4B-A9D1-01C7C237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306CC-B634-4D08-B86B-636A8966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061116-CD37-401E-A884-FC937939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2BACE-8114-4B03-8556-22BC75DF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F7FBA7-26D8-4076-A528-56E544E8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17E57-E2EA-45E0-BE5E-2BB6C03E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86871-D6CB-41EC-89A8-87CE7DB4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C80549-F0C5-443A-9C94-3FA944AC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430C-3A02-47CF-9D0C-E1DBA91B1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5E36BD-146D-482A-9AF0-BC17762B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2A51DB-3168-46E8-928C-4A81195DC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E49EB-028E-4776-AE0B-97D3F1E9D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C6E51B-6F9D-451C-9F9D-0D97E158B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D21D08-4165-4094-A11E-5B94F62F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2C11DB-C0AA-4CEE-848D-5E57D41D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E4D043-FE68-4E99-9A0B-A5E1036F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245E6D-49BE-49D0-9506-2FD6213A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ECE76B-D894-4FFA-93D9-19F2AD80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F04CE6-9AFF-440F-8D5B-217D4F3E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02011-ACD8-4BF7-A2F3-538EE8BA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AE75A1-F3C6-4B2B-840D-11208359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9E554C-F1DE-4888-8A88-342B2DE7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EF6DAA-25CD-4C06-B70E-4CED63F9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29A96E-F3EB-4445-960D-F8686A910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02FC9A-BC81-4E6F-8F80-DCAD9AE33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0435-3891-4A4D-A231-04281884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E5A8-9699-409B-9942-D1931441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6023-7500-4866-9A4A-793F0201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C79FE-39A1-4B13-A144-B28629F5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03426-1196-4F47-99A6-51DF13D5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42CF-22B4-4DCE-8194-22A65F8B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2160-D774-4FD3-B865-3D3EC267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EE4D-FC96-43C8-BD32-27476BDC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4241A-9C0A-4CE8-B31F-6FF4D353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E649-C2E8-4136-A63F-185D3CA6C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7254-508F-4469-9DA6-B9287F15F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A2C26-247C-466E-ADAC-C3AD5400F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828E7-1F27-4E69-9992-F272DEA8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9DB9C-3FD8-4130-993E-235450FB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86933-718E-48C6-8B8A-570A2855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22CEF-2984-420B-A190-C80DCA2A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B059-CCA1-4C9F-9E85-78D5B309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93877-7B69-4D92-A61C-7ABD064F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CAF61-4C86-48A1-B612-6A20CEC3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5FC0D-0C93-4DED-9E13-0F5E51F6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D6A78-7571-4711-B6B2-22F307F0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86BA2-B001-4758-9D4F-A354F82A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F9BE7-2A4C-4227-8747-B33B4C9B5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668EF-8902-4F38-90E4-13B0D4667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D4F9F-F965-4B7A-96C8-FED484210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6AF0D-C1F0-4006-934B-2C2A77CA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ACF83-6EC2-490F-BD23-A261F395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313C-DF62-4734-9FD3-64FB4A39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827B6-B7FC-4BD7-82FA-2B0CC2B2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7E5E5-6C0F-4979-95FD-20FB7950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6EDA6-4298-425C-8518-0AC2410F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69B83-C2EF-4737-9F97-948C4627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B44D3-A775-4AC1-82E9-B1BED295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91DCE-032C-4C00-9168-B7996FB2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C5378-113A-41A6-86D2-5DF90418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CFD36-019E-454A-9FF9-442D8915F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938DB-98BC-4CB9-948D-1894671C1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C9CE7C-B294-4FEC-92B8-07490B958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DE64-BD89-47C9-82B2-F7BAEDB9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D351B6-DB12-4E8D-A2FA-16A1929F1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3A763E-2646-45A3-89B1-1EBC1755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BFEBFC-BFF0-4838-AAA9-5CCA672C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C273F1-BF69-4547-BEBF-5023E2B8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2405CC-FE27-4E7D-99E2-69A6568A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1ED447-6233-4FE0-902A-A5C40293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31B774-0672-4163-A98F-38403BDD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1BDCFB-5DCD-43C6-A94C-F985A54C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A03814-9D1D-4F73-BAC0-AAA383E9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2B6326-2EFC-4F7C-933A-9CA8B62F8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FF11-1DE2-4AED-8E31-76C394F4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918267-372E-4783-AC54-5525BF49B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4F317-5BDC-4F34-B99A-D99E5932F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AFD4A-772E-449D-ADA5-BF7A4AFC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8A970-B60F-412F-AE20-0D0C4383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2572E-7988-4114-ADA3-CFF4BF4E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EB5FD-45BE-45F5-BEE5-8618C7A9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10284-2C3D-4F19-A7BE-8FA8AA23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F3BC3-86BF-4B7E-959A-63517C23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E806B-D93B-45D5-B710-1F0A571A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1526A-2388-4F9D-AC3D-61149FDB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4273-7365-4D7D-90D6-5BC88EBB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06C91-7BA5-44D4-AC84-AEBFBE68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B0B72-968E-4435-9FD2-64609D820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6571E-ABF6-4C3D-9ED7-05C5AA45A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16FE1-105B-451B-976F-2F0018257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778EE-CBED-41F7-A9C0-55280DBC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2FC69-ED38-4D7C-95AF-759BCE3F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8EC8B-793E-4DA1-97A8-7922843C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AF7A8-159C-40B4-8184-682397C2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C63BD-B9E9-4634-9645-51928555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51C7A-A027-478C-9ECC-63E3E88F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7D55-025B-4B13-BC49-7281AB48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D883E-6F71-4A96-8BAD-77D81806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4C7D1-C39E-4D9C-A595-948E92EA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06827-6960-4FB0-8689-C1D01577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D5A89-320C-4608-AC84-74770FD9C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5B2C0-0A80-42AC-A2F1-0ADD0105A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987E0-B496-4F06-A101-C255DEC13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3EAB9-229F-4EC2-8082-B988E546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948E7-D57E-418F-80B6-9084505D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AE337-475E-491A-A4FF-00BA810A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D9391-447C-42AC-9CB5-6900139E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ABE5-5243-4780-9618-B3CCFA31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160D7-0185-4277-AE6F-F51D6A86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4CF4F-1111-4B11-8276-20A9FA4A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FFBCD-553D-43D9-B030-699BDC77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0F5E9-937B-4469-B61A-F621E3F8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F4CDF-E47C-4732-9EA5-316BD76C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8E301-86B2-4849-9D20-6CBA52944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CEFCC-BB79-4821-8560-3E4765F28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E26B19-DAD3-435C-A976-B699AEAE5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5842B2-3912-46E4-A9F1-C53FFA6A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33C14C-1B4D-43DC-BE3C-E7364FAC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5E08-A27D-43D8-AEDB-05BD976F1868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D196-D50C-4269-8945-2E6D4EC2B8E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AB3CA-08E7-4D16-91DD-F7B6A0C5478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F75B-817F-48F6-A6D4-D5CEC9695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AB66-8A78-42E0-9B59-AB0FDB9F56F2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9845-18EA-4003-8A29-949422B49D1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6DA3-C809-4FE7-A46E-95F4500A23AF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F3AD-3732-41C7-81C9-226CB286554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0F83-4C6E-45C4-A63B-FC04B1DB383E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B0CE-4EF5-42F6-ACB6-39374016A3D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B29C-257C-491F-A425-B40AB38E7E0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A70C-6DC0-4A52-99EC-4E8884111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52CA-637E-4E5D-A958-9A830EBD222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1948-8A35-4D51-9393-C0E89BBB1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8208-59C3-4C7C-A225-BFA7E5992AB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C51E-94A7-4742-8135-008B62C74BA3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990E-A95C-4A70-A854-230E5226C639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2B05-B712-4DC2-A1F4-AAFD94A9C12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F842-4214-49A2-97EE-89EFD3720C71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BB3E-D318-4A55-807A-5C9C317054D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61A5-783E-43E0-ADF0-EC9E16E71887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54CB-C2E6-46C6-82F1-2BF96EDA9BF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BB81-4A91-478E-AB6D-9F49663F966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D234-EA38-4CB4-A8EF-3B715C2C1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4450-159F-48AD-987F-3E1BAE96F41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BC8E17-E694-4319-99EE-FAE62C250D9E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70DB4-BCD7-4A2C-8E64-368A20EFCB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CB79D3F8-7B8D-4916-ABC1-BF6AC2444D93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9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67306-0444-4C61-9E3B-2E6CA927D968}" type="slidenum">
              <a:t>3</a:t>
            </a:fld>
          </a:p>
        </p:txBody>
      </p:sp>
    </p:spTree>
  </p:cSld>
  <p:transition>
    <p:comb dir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E34A59-798A-4EB7-B8BE-C5BEB5CD8253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D0956DC4-0FCC-4F06-8A08-30B853979D48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331CF-12CF-4405-9B47-F3314556383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1853FDC3-CE63-4F0A-B31F-FECCB8D412A0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000"/>
                            </p:stCondLst>
                            <p:childTnLst>
                              <p:par>
                                <p:cTn id="3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9000"/>
                            </p:stCondLst>
                            <p:childTnLst>
                              <p:par>
                                <p:cTn id="3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A183FA-08C2-4349-A6A5-E193A61E3E4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C5C1477C-AC50-4230-925D-8637F0FB81FA}" type="datetime1">
              <a:rPr lang="en-US"/>
              <a:t>07/31/26</a:t>
            </a:fld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