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21432-D81A-4CDF-8A5E-5434E1ECA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6AE5B-3E48-415E-BE41-4C5984BD0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F55A9-C3F8-4475-84E9-F4A32E369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DE2E9-F309-4470-A556-C594DD14E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8C7F7-309A-41E0-8169-E09B22101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37046-42B3-41F4-9627-2E73A498E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365F3-657E-4CFE-9157-493C60A6F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79CED-4427-4AA4-B2CD-2AC196328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9D143-3A28-4F6B-8AB5-9EE561C78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4239B-8697-4BFB-B75D-A9667A11B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A82D0-165B-4F46-8B3A-44968D420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8FD23-97C4-4BAF-B0FB-D084BED89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1E1CF-AA2E-490C-8960-665AED0895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19200" y="1400040"/>
          <a:ext cx="6105600" cy="405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9200" y="1400040"/>
                    <a:ext cx="610560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3:31Z</dcterms:created>
  <dc:creator>Oliver Craemer</dc:creator>
  <dc:description/>
  <dc:language>en-US</dc:language>
  <cp:lastModifiedBy>Oliver Craemer</cp:lastModifiedBy>
  <dcterms:modified xsi:type="dcterms:W3CDTF">2005-01-06T09:23:42Z</dcterms:modified>
  <cp:revision>1</cp:revision>
  <dc:subject/>
  <dc:title>Slide 1</dc:title>
</cp:coreProperties>
</file>